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81F-BB4F-45D4-98C1-60A961EB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0CA-DD78-4CDD-B0F2-64DC258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846-F93A-46A8-8362-E8146D03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ACF-3F6A-45CA-88C3-AA096B8B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6A4-E3BC-484D-A72A-B7625F7D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5A42-5DF3-486E-8397-CAB243F0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301-270A-4A52-908B-D3A7371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4559-62DC-4AEC-B9E9-30BEB2D4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3FD3-7000-4ADF-8E43-8F72B064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3EE-9CD7-4859-B673-A956961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D1B-0AAF-47E3-A821-1C93C71B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8FE-CB67-4E5A-ABDE-DAA2D504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4B0A-28E8-492A-B9FA-6DEF1F51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A89C-4291-460C-8664-C9FB284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A02-4111-45DD-A22A-C19D147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924-75A9-4153-B4FA-FC469790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3D85-B6DD-48BD-B417-B85968CF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959-8627-4454-A8D8-88F776DE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3F0-A45C-4AFB-A5D3-E9997D38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594-D0AD-4C8A-80A2-982BC7FF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903-BDBD-43C6-8BD8-D304F8F6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847-E893-4096-A667-FD6F844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5F6-80AB-44F2-840A-7E345FB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66D-CD47-461C-95B9-5D3D702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7F39-978D-46D3-8680-58549723D7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522-FE96-4D20-80B9-F3D49D45F8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dividual oral commentary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個人口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討論部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會提問讓學生再引導問題的基礎上再發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需要滿意學生對於材料的理解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簡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%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分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要被錄音，需要上交給考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最高分數：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讓學生研究語言的意義與寫作手法等的關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需要表現對於書本的理解和知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選擇材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需要負責從已讀過的两本書裡選擇材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不會預先知道內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材料不會超過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行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口試：第一部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，第二部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預備時間：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據從第四部份的兩本書進行口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材料的分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材料的數量取決於班裡的人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們班每個人的材料會完全不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準備時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會給學生一份沒有注解的備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每個學生需要再老師的監督下被分配到一個教室里準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可以記簡單的筆記當做口試的參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只拿到一份材料和一份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引導問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老師會在準備時間前給學生一份包括兩道的問題紙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內容的概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寫作方法（手法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幫助學生開始口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對於主旨的關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只針對於概要（不會針對細節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讓學生自己發掘文中重要的問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鼓勵學生理解文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例子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文中結構怎麼反映主旨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作者用了什麼樣的寫作方式表達感情，態度，和意思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想法怎麼影響了讀者對於文本的理解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個作品針對了哪些讀者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段文字表現了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與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的關係是什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這段的主旨什麽，是怎麼發展的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作者試著表達什麼樣的環境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評論部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流暢，適當的語言，不要離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老師不會打擾學生評論，除非學生需要幫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學生應該專注在材料上的內容，如果需要提到書中其他部份，一定要跟引導問題有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在評論中學生應該回答引導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6:27:12Z</dcterms:created>
  <dc:creator>FtpDown</dc:creator>
  <dc:description/>
  <dc:language>en-US</dc:language>
  <cp:lastModifiedBy>Client Admin</cp:lastModifiedBy>
  <dcterms:modified xsi:type="dcterms:W3CDTF">2012-02-06T06:51:16Z</dcterms:modified>
  <cp:revision>4</cp:revision>
  <dc:subject/>
  <dc:title>Individual oral commentary</dc:title>
</cp:coreProperties>
</file>